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53F-8EC5-4047-BA6B-1414D927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EEE-13E1-430B-B316-D5619C1B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85E-34F1-419B-9DE5-FFD2FBFA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9B2-08BC-4D61-A89C-74C8F4A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4B7-D42F-48D9-B71A-30989A33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70C-C145-4205-8CCE-91E5254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7D1-52D0-48EE-B72C-8896B6A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266-0A46-460B-A695-65844BB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BA2-2909-4703-81A2-9B527F4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9ED-32A9-4452-BA66-62CDB11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C46-1D97-4285-8658-367CA183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F79-24F0-4C2D-BDA0-96561E23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D2D-44B1-4912-B012-7011DF52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revorasserson1" descr=""/>
          <p:cNvPicPr/>
          <p:nvPr/>
        </p:nvPicPr>
        <p:blipFill>
          <a:blip r:embed="rId1"/>
          <a:stretch/>
        </p:blipFill>
        <p:spPr>
          <a:xfrm>
            <a:off x="283356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9:37:37Z</dcterms:created>
  <dc:creator>user97</dc:creator>
  <dc:description/>
  <dc:language>en-US</dc:language>
  <cp:lastModifiedBy>user97</cp:lastModifiedBy>
  <dcterms:modified xsi:type="dcterms:W3CDTF">2010-04-28T09:37:56Z</dcterms:modified>
  <cp:revision>1</cp:revision>
  <dc:subject/>
  <dc:title>שקופית 1</dc:title>
</cp:coreProperties>
</file>